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179C-8408-44D8-95A8-EC4F72A9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67E-625F-4A90-9855-15F6AB24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51B-4547-45E9-B1C8-59CB99D1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DB8C-F456-4807-A9B1-CEF69810B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7667-725B-4925-9193-90C1C35C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F430-4827-4CC7-8974-5B95378E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4BBB-5CEC-450F-9884-79374DFA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4DF4-4E11-432B-8B2A-A14E5A9A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58BB-72DA-4942-87F8-A7313898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DF3D-E604-40B6-80FB-13F29D1D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CCFF-A190-44ED-8493-485F6D42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3000-9FEE-4FE0-94A7-1D816E7F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6CA9-A735-4CEE-A68F-6F37E663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D8CC-DC0D-4958-9434-32497DAF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1201-36C7-4D7F-9451-396FF550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F2AA-DC79-4E7C-8B4A-2BF79E80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9CD1-AC6D-4E77-B892-3517BE82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04FF-7564-4DFB-96A3-3018D697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A04-73B0-4563-92A6-97496869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B998-6163-4F48-BF6F-7A26DDC8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A9C4-B3AA-41DC-B45B-963B50E3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B1A7-4C8D-4950-BD55-9348EAF4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866-34D2-4901-A71C-0FB03410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47AE-6D00-4B3A-B773-B662CF01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B05A-FD24-4CC7-B352-51FA63C407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5859-B3CA-4EC3-8E59-BB7D7BCF43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Урок русского языка в 5 класс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инонимы и антони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 Красавцева Наталья Игор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курс филологический факуль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ГПИ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Что такое ЛЕКСИКОЛОГИЯ?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40384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Times New Roman"/>
              </a:rPr>
              <a:t>Проблемные вопрос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Что такое синони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Для чего нужны синони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Что такое контекстуальные синони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Что такое антони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Для чего нужны антони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ff"/>
                </a:solidFill>
                <a:latin typeface="Times New Roman"/>
              </a:rPr>
              <a:t>Цели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Познакомить учащихся с понятиями синонимы и антони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Сформировать у учащихся умения подбирать синонимы и антонимы к слов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аучить учащихся видеть синонимы и антонимы в тек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Представление результатов исследова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Букл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Веб-сай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резентация докла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Сочинение или э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Творческие задания (инсценировка, творческая презентация, составление словарей синонимов и антонимов на различную тематик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Продолжительность проекта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1 нед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2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Этапы проведения проекта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Выбор и формулировка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Поиск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Самостоятельная работа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Защита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Информационные ресурсы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Учебники и учебные пособ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Интернет -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5-06T05:29:3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